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4D521-E7F9-464A-8FD7-7616FA7B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C6AE-F560-4A5C-91C0-B492D8D1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DA519-A6C0-48F7-A7F8-FCD51ACB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0C51-76E2-4D47-959A-EFEF746D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16F1D-1C3B-402E-92C0-A59A5E5C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12AD-94BB-4E7D-838F-F3D70CC8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5D35-E601-418E-8DA6-D9E4E818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8744-43D2-42B5-9A47-3D37C0D4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6D10-CFB5-4992-95F6-10132278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23EC-4C59-47AE-8579-8F34E765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719E-592A-4732-B0E6-DA280C42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FF1D-B065-4934-8A25-3ACCC394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EFE4808F-9D00-483D-BADA-0D9E6D9F9A25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058A-A059-4F8A-AFBD-A489E26B693B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51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905120"/>
            <a:ext cx="130644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65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 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concept without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03440" y="26668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7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60240" y="2057400"/>
            <a:ext cx="193068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81360" y="3048120"/>
            <a:ext cx="774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1440" y="3200400"/>
            <a:ext cx="135864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23623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9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with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03440" y="16765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1905120"/>
            <a:ext cx="7495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51440" y="1905120"/>
            <a:ext cx="14349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-MUX</a:t>
            </a:r>
            <a:br>
              <a:rPr sz="2400"/>
            </a:b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TraceMultiplexer.ex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2666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7432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9448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target side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nable L1-tracing over one of the Com-Ports of the B/C-Sampl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via monitor-program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650960" y="1228680"/>
            <a:ext cx="6600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72284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278136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3102120" cy="268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2767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9528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1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earCase: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sert “include \\hokus\csi\gpf_testtools.csi” right after “mkbranch xxx_view” in your ConfigSpec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build ccddata_dll.dll (in /GPF/BIN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itvars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 ccddata gprs win32 t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2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py 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\\rk\ti_mux\bin\TraceMultiplexer.exe -&gt; /GPF/BI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t baudrate of comport inside TI-TraceMultiplexer to 115200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985840" cy="159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86200" y="4029120"/>
            <a:ext cx="5591160" cy="136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426708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Us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estsystem/tool side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 pco2.bat in /GPF/BIN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AVE! For Win2000-SP2 use pco2000.bat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e /GPF/DOC/pco/pco_userguide.doc and /GPF/DOC/xpanel/xpan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r detailed informa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xit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76688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5181480"/>
            <a:ext cx="6172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8-20T15:36:50Z</dcterms:modified>
  <cp:revision>80</cp:revision>
  <dc:subject/>
  <dc:title>xPanel &amp; PCO2</dc:title>
</cp:coreProperties>
</file>